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2FB-E491-4EC3-B0BC-79274457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54E-D6F5-4C12-96AD-243E0004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AAFC-5AC3-4D62-AE08-CA3A0BFD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646-C629-4AB6-8AD6-85607BB4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D6AA-FEC2-4B44-903D-5309D4B9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05C-C012-4DDD-95FC-5130347B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C42F-40CE-409D-8B22-308655E9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192-B819-4F31-8C19-2D3CA585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6303-8B70-439B-A9FE-E489B40F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8B0-2D0D-41DC-9A9A-22D25044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511D-92EC-4787-8FE6-6784D170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7B3-6D97-470D-9318-4DC1462D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EDE2-C1C6-4842-9C97-EF05EEB9F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pemberton.html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8280" y="1295280"/>
            <a:ext cx="40388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ca Cola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5715000"/>
            <a:ext cx="175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rdan 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2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4419720"/>
            <a:ext cx="33530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 Free play musi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3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 Depth 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4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emberton"/>
          <p:cNvPicPr/>
          <p:nvPr/>
        </p:nvPicPr>
        <p:blipFill>
          <a:blip r:embed="rId1"/>
          <a:stretch/>
        </p:blipFill>
        <p:spPr>
          <a:xfrm>
            <a:off x="0" y="0"/>
            <a:ext cx="2552760" cy="3733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4419720"/>
            <a:ext cx="32004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ohn Pember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8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pemberton.html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Save 10% With Promo Code COKEGEAR10"/>
          <p:cNvPicPr/>
          <p:nvPr/>
        </p:nvPicPr>
        <p:blipFill>
          <a:blip r:embed="rId3"/>
          <a:stretch/>
        </p:blipFill>
        <p:spPr>
          <a:xfrm>
            <a:off x="6172200" y="457200"/>
            <a:ext cx="1486080" cy="787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Mycoke"/>
          <p:cNvPicPr/>
          <p:nvPr/>
        </p:nvPicPr>
        <p:blipFill>
          <a:blip r:embed="rId4"/>
          <a:stretch/>
        </p:blipFill>
        <p:spPr>
          <a:xfrm>
            <a:off x="5181480" y="1523880"/>
            <a:ext cx="1924200" cy="865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86200" y="3505320"/>
            <a:ext cx="4495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a Col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y C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oca-cola.com/en/index.html 2/28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oca C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Pemberton created the original formula in 188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1831 in Knoxville ,Georg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88 he sold of a sum 1,750 of coca 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88 later that year Pemberton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ggs Candler gained ownership of the entire enterprise by 18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John Pembe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put in cocaine, kola nuts a rich source of caffeine and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ison sold bottles and sold syrup in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05 they had to stop putting cocaine and kola nuts and put in citric and a variety of fruit flav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Pemberton started coca cola with syrup and brass ket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tlanta forbid the sale of alcohol in 1888 Pemberton changed the formula and began selling only coca syr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4:06Z</dcterms:created>
  <dc:creator>install</dc:creator>
  <dc:description/>
  <dc:language>en-US</dc:language>
  <cp:lastModifiedBy>install</cp:lastModifiedBy>
  <dcterms:modified xsi:type="dcterms:W3CDTF">2011-03-11T18:31:49Z</dcterms:modified>
  <cp:revision>9</cp:revision>
  <dc:subject/>
  <dc:title>Slide 1</dc:title>
</cp:coreProperties>
</file>